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B85-E556-4E74-9989-4711AA48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5A9-565E-4180-9B20-2FE7A54C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1A7-7E7E-42E6-AFAB-9BB92523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1EB3-9932-401D-8371-CB076D39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3B9-2C35-40DF-A348-41F2D747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9E8-510C-4189-9E3D-C462DE20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9F8-4E27-4415-A437-2C10FA7C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A918-9676-49EE-8BE7-0DA3D9BB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868-A1FF-40CB-A874-700B6628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DEA-5A36-45EC-A1BE-71EAC686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21F-EA19-46D0-B422-95E5B2E8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616-D317-4D00-868C-066D6F7C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48E8-5163-44A6-84D9-355B40188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e old black bear couldn’t run very fast.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Arial"/>
              </a:rPr>
              <a:t>My mother drives a big truck.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My father got a blue shirt from my mother.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The bear went straight to the big tree.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Kent couldn’t stop himself as he coasted down the hill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I love spring when the flowers bloom and look fresh and perfect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It wasn’t my dad’s fault that he couldn’t start to build my tree house that day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Arial"/>
              </a:rPr>
              <a:t>My mother kept all my drawings from first grade.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Your father has my grandfather’s old belt tied around his waist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To get to Big Bear Camp, head straight down Spring Street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I love to ride over the bump on that bridge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Let’s build a tree house near the nest.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000000"/>
                </a:solidFill>
                <a:latin typeface="Arial"/>
              </a:rPr>
              <a:t>My mother told me to drink my milk.</a:t>
            </a:r>
            <a:endParaRPr b="0" lang="en-US" sz="1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Does your father have flowers in the yard?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Trot straight down that street.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He couldn’t write with the blue ink.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Tom loves to swim and jump in the water.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Brad will help build a green doghouse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3:15:55Z</dcterms:created>
  <dc:creator> </dc:creator>
  <dc:description/>
  <dc:language>en-US</dc:language>
  <cp:lastModifiedBy> </cp:lastModifiedBy>
  <dcterms:modified xsi:type="dcterms:W3CDTF">2007-05-07T01:39:21Z</dcterms:modified>
  <cp:revision>22</cp:revision>
  <dc:subject/>
  <dc:title>He is always happy.</dc:title>
</cp:coreProperties>
</file>